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39B7-40DF-4BAE-85FC-5621CCBE9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624B-1277-4EAF-B20E-AFF02130C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ri - Decline in u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t been especially helpful in making decisions about specific instructional interventions or teaching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often set low expectations for student, resulting in diminshed effort to teach students who earn low sc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, mentally retarded, specific subgroups…who are then disproportionately placed in special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ts have found IQ test discriminatory and mandated an end to their use (p. 241, Salvia, et 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ccultur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. 2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dividual’s particular set of background experiences and opportunities to learn in both formal and informal educational sett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9C12-5D9A-4AAB-8F23-FA852C9A7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FCFA-50E5-4839-8632-338EE73F1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17F5-AA3C-453E-BCC9-5D78AF722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791-856E-4DC0-A5A2-BC32508C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ADF-F283-487E-B99E-674D573A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543-4F7D-4D29-9BF3-3361618D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79E-75D9-4610-BB9A-16C0D2D7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167E-6CF6-423E-99E3-98C4F130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70EC-A6D7-4595-875B-880B7D7A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5900-59D8-4E46-9FFD-3A7F54BB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34FE-DB96-4F1D-AEE0-C05710A9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D610-4F0F-41FF-9796-D9E2E3B3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7CBC-02E0-4B69-B0D0-778BB7E6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4498-6DF7-443E-8BBB-12A57006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AD1-62E4-4161-8D90-750D15A5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2B84-79DD-4E78-A71A-A962D1CA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A4AB-66B4-4AC5-885B-40F8A8B1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5B23-805B-4C51-906D-0FB39206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8832-388A-463C-B068-63C1A0B6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AF17-63CD-4E62-AFE9-C6ABDEF3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102-B0E4-4BAC-8E9A-EEEE63DC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D486-6A44-471D-8600-0958CB06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D4B-B073-4186-A763-3082FBD3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2CB-6F06-4C24-82C1-E033A066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579-297D-40EA-A95B-F3E74E11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F19-ABEF-45AE-9F6D-36504667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2B8-2270-4B85-B2D1-A181B4DD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9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a1f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F020-CC13-412F-83A6-382C833E4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9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a1f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D00D-1AB0-4FE5-9704-9EF30C44E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3416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Q Testing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eb Quest Projec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ta Achampong, Marisol Craig, Christy Gruver, Patty Hillery, Jill Machemer, Lori Stol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m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McNiff – ED 5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qtestinggroup"/>
          <p:cNvPicPr/>
          <p:nvPr/>
        </p:nvPicPr>
        <p:blipFill>
          <a:blip r:embed="rId1"/>
          <a:stretch/>
        </p:blipFill>
        <p:spPr>
          <a:xfrm rot="20880600">
            <a:off x="1198080" y="515880"/>
            <a:ext cx="14479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Q Test Biases VS IQ Test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ersonality-and-aptitude-career-tests.com/iq-test-bias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∙tel∙li∙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ferred ability; a term or construct used to explain differences in present behavior and to predict difference in futur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IQ Tes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Q testing? What does it look like? How is it administered? What does it measure exactly and based on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ly Used IQ Te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76520"/>
            <a:ext cx="8381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ufman Assessment Batter for Childre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is-Lennon School Ability Test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body Picture Vocabulary Test-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-Binet Intelligence Scale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chsler Intelligence Scale for Children-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cock-Johnson III Tests of Cognitive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.Q.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rsg.education.wisc.edu/gifted/iq_testing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Unconscious Bias of Intelligenc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outhernct.edu/organizations/hcr/2001/nonfiction/testbia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7:52:31Z</dcterms:created>
  <dc:creator>Andrew</dc:creator>
  <dc:description/>
  <dc:language>en-US</dc:language>
  <cp:lastModifiedBy>Andrew</cp:lastModifiedBy>
  <dcterms:modified xsi:type="dcterms:W3CDTF">2010-05-31T14:45:57Z</dcterms:modified>
  <cp:revision>16</cp:revision>
  <dc:subject/>
  <dc:title>Published Test Instrument Critique WIAT</dc:title>
</cp:coreProperties>
</file>